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0ADA-1F8B-4FBD-A791-825C6855F6A0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5100-6438-4159-8362-3FCE09667D7A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E5CD-6763-4FB4-ABB5-368C231BC43E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5C1C-92EE-4C37-9C7C-7ED96DB6FDC3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95A4-FCD9-403F-B65A-1D74CBA0AD0D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C83-246B-4C23-9341-5936E1EF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79E-B400-4E20-B41E-DE6EC674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D78-2BF2-4660-8CCD-CF763AF2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FBE-EA31-4E1D-A622-5BD6AF14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5666-D113-498F-8089-CC161F1A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E0B9-DAB1-47DF-8599-783C0168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2873-060A-4DBB-86E8-4B0EA0C0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5182-0C0A-4950-80C4-9827FEF5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82A2-FB58-4206-9467-0F853DB8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C147-925F-4EC6-A2D0-B85D93F3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3CF1-10AB-4444-9E12-F8EA7EE6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8EB-33E3-446E-820E-843B0C85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539D-9E2D-4043-AB91-84CF46B3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ED5D-234A-464B-BC1B-80CD726D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A925-2A9D-4793-BA82-783C740A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CD53-802C-4921-AB1E-2EA5D3B2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2B2E-FF53-4CD0-B0AF-ED281F7B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CB8-5055-4F32-9346-DEDA1812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5A8-80C6-4670-A0D5-A83DA4F0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C08-9C26-4BE3-A83D-7019AE94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164-0614-4CD3-AD1D-D96D5FA0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D57-E791-49B8-A6B1-90EC7105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626-437B-4EB5-B49A-8D72B123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B4B-4AE3-413B-97FB-AD25B691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E477-A59A-4D22-8C3B-6EAE575B0E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7EE5-B5BC-4188-A628-E3E0AC5B35D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Линейная функ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рок обобщающего повто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Среди графиков найдите те, которые соответствую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равномерному прямолинейному движению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Line 3"/>
          <p:cNvSpPr/>
          <p:nvPr/>
        </p:nvSpPr>
        <p:spPr>
          <a:xfrm flipV="1">
            <a:off x="6858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"/>
          <p:cNvSpPr/>
          <p:nvPr/>
        </p:nvSpPr>
        <p:spPr>
          <a:xfrm flipV="1">
            <a:off x="68580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68580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35812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350532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358128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63244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6477120" y="6324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V="1">
            <a:off x="64771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37240" y="25909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9034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6466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23652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87520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214000" y="396252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771480" y="213372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685800" y="304812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53380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666960" y="205740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8"/>
          <p:cNvSpPr/>
          <p:nvPr/>
        </p:nvSpPr>
        <p:spPr>
          <a:xfrm flipV="1">
            <a:off x="3581280" y="2057040"/>
            <a:ext cx="1371600" cy="1676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85384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410160" y="198108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1"/>
          <p:cNvSpPr/>
          <p:nvPr/>
        </p:nvSpPr>
        <p:spPr>
          <a:xfrm>
            <a:off x="6324480" y="3733920"/>
            <a:ext cx="1905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2138400" y="658332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67880" y="4267080"/>
            <a:ext cx="2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21932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175248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1613520" y="6567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609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2895480" y="502920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241920" y="4572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2"/>
          <p:cNvSpPr/>
          <p:nvPr/>
        </p:nvSpPr>
        <p:spPr>
          <a:xfrm flipV="1">
            <a:off x="175248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5"/>
          <p:cNvSpPr/>
          <p:nvPr/>
        </p:nvSpPr>
        <p:spPr>
          <a:xfrm>
            <a:off x="68580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6"/>
          <p:cNvSpPr/>
          <p:nvPr/>
        </p:nvSpPr>
        <p:spPr>
          <a:xfrm flipV="1">
            <a:off x="685800" y="4648320"/>
            <a:ext cx="1066680" cy="1676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7"/>
          <p:cNvSpPr/>
          <p:nvPr/>
        </p:nvSpPr>
        <p:spPr>
          <a:xfrm>
            <a:off x="541440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8"/>
          <p:cNvSpPr/>
          <p:nvPr/>
        </p:nvSpPr>
        <p:spPr>
          <a:xfrm>
            <a:off x="3586320" y="4267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49"/>
          <p:cNvSpPr/>
          <p:nvPr/>
        </p:nvSpPr>
        <p:spPr>
          <a:xfrm>
            <a:off x="3505320" y="6324480"/>
            <a:ext cx="18288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50"/>
          <p:cNvSpPr/>
          <p:nvPr/>
        </p:nvSpPr>
        <p:spPr>
          <a:xfrm>
            <a:off x="869076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-146376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rc 58"/>
          <p:cNvSpPr/>
          <p:nvPr/>
        </p:nvSpPr>
        <p:spPr>
          <a:xfrm flipV="1">
            <a:off x="6477120" y="3809160"/>
            <a:ext cx="1342800" cy="2514600"/>
          </a:xfrm>
          <a:custGeom>
            <a:avLst/>
            <a:gdLst>
              <a:gd name="textAreaLeft" fmla="*/ 0 w 1342800"/>
              <a:gd name="textAreaRight" fmla="*/ 1343160 w 1342800"/>
              <a:gd name="textAreaTop" fmla="*/ -360 h 2514600"/>
              <a:gd name="textAreaBottom" fmla="*/ 2514600 h 2514600"/>
            </a:gdLst>
            <a:ahLst/>
            <a:rect l="textAreaLeft" t="textAreaTop" r="textAreaRight" b="textAreaBottom"/>
            <a:pathLst>
              <a:path fill="none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</a:path>
              <a:path stroke="0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59"/>
          <p:cNvSpPr/>
          <p:nvPr/>
        </p:nvSpPr>
        <p:spPr>
          <a:xfrm flipH="1">
            <a:off x="6400800" y="5791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647712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62"/>
          <p:cNvSpPr/>
          <p:nvPr/>
        </p:nvSpPr>
        <p:spPr>
          <a:xfrm>
            <a:off x="73152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3"/>
          <p:cNvSpPr/>
          <p:nvPr/>
        </p:nvSpPr>
        <p:spPr>
          <a:xfrm>
            <a:off x="6035040" y="5715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4"/>
          <p:cNvSpPr/>
          <p:nvPr/>
        </p:nvSpPr>
        <p:spPr>
          <a:xfrm>
            <a:off x="7099920" y="6400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65"/>
          <p:cNvSpPr/>
          <p:nvPr/>
        </p:nvSpPr>
        <p:spPr>
          <a:xfrm>
            <a:off x="6858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6"/>
          <p:cNvSpPr/>
          <p:nvPr/>
        </p:nvSpPr>
        <p:spPr>
          <a:xfrm flipH="1">
            <a:off x="6094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67"/>
          <p:cNvSpPr/>
          <p:nvPr/>
        </p:nvSpPr>
        <p:spPr>
          <a:xfrm>
            <a:off x="6481440" y="4267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равнение зависимости координаты х движущегося по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ямолинейному участку шоссе  автомобиля имеет вид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=200-20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зите рисунок, поясняющий движен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ого т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ов вид движения автомобил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йдите начальную координату автомоби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скорости автомобиля от времени и запишите его уравн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координаты о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какой момент времени координата будет равна 0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ение задач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52"/>
          <p:cNvGrpSpPr/>
          <p:nvPr/>
        </p:nvGrpSpPr>
        <p:grpSpPr>
          <a:xfrm>
            <a:off x="617400" y="1916280"/>
            <a:ext cx="6817320" cy="997200"/>
            <a:chOff x="617400" y="1916280"/>
            <a:chExt cx="6817320" cy="997200"/>
          </a:xfrm>
        </p:grpSpPr>
        <p:sp>
          <p:nvSpPr>
            <p:cNvPr id="414" name="Text Box 9"/>
            <p:cNvSpPr/>
            <p:nvPr/>
          </p:nvSpPr>
          <p:spPr>
            <a:xfrm>
              <a:off x="7174800" y="25146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5" name="Group 51"/>
            <p:cNvGrpSpPr/>
            <p:nvPr/>
          </p:nvGrpSpPr>
          <p:grpSpPr>
            <a:xfrm>
              <a:off x="617400" y="1916280"/>
              <a:ext cx="6774120" cy="997200"/>
              <a:chOff x="617400" y="1916280"/>
              <a:chExt cx="6774120" cy="997200"/>
            </a:xfrm>
          </p:grpSpPr>
          <p:sp>
            <p:nvSpPr>
              <p:cNvPr id="416" name="Text Box 8"/>
              <p:cNvSpPr/>
              <p:nvPr/>
            </p:nvSpPr>
            <p:spPr>
              <a:xfrm>
                <a:off x="5824080" y="2514600"/>
                <a:ext cx="4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10"/>
              <p:cNvSpPr/>
              <p:nvPr/>
            </p:nvSpPr>
            <p:spPr>
              <a:xfrm>
                <a:off x="3060000" y="251460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8" name="Group 50"/>
              <p:cNvGrpSpPr/>
              <p:nvPr/>
            </p:nvGrpSpPr>
            <p:grpSpPr>
              <a:xfrm>
                <a:off x="617400" y="2133720"/>
                <a:ext cx="6774120" cy="551160"/>
                <a:chOff x="617400" y="2133720"/>
                <a:chExt cx="6774120" cy="551160"/>
              </a:xfrm>
            </p:grpSpPr>
            <p:sp>
              <p:nvSpPr>
                <p:cNvPr id="419" name="Text Box 3"/>
                <p:cNvSpPr/>
                <p:nvPr/>
              </p:nvSpPr>
              <p:spPr>
                <a:xfrm>
                  <a:off x="617400" y="2286000"/>
                  <a:ext cx="29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4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5"/>
                <p:cNvSpPr/>
                <p:nvPr/>
              </p:nvSpPr>
              <p:spPr>
                <a:xfrm>
                  <a:off x="320040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6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7"/>
                <p:cNvSpPr/>
                <p:nvPr/>
              </p:nvSpPr>
              <p:spPr>
                <a:xfrm>
                  <a:off x="601992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1"/>
                <p:cNvSpPr/>
                <p:nvPr/>
              </p:nvSpPr>
              <p:spPr>
                <a:xfrm flipH="1">
                  <a:off x="5257440" y="213372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5" name="Text Box 12"/>
              <p:cNvSpPr/>
              <p:nvPr/>
            </p:nvSpPr>
            <p:spPr>
              <a:xfrm>
                <a:off x="5133960" y="19162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</a:t>
                </a:r>
                <a:r>
                  <a:rPr b="1" i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 м/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6" name="Group 60"/>
          <p:cNvGrpSpPr/>
          <p:nvPr/>
        </p:nvGrpSpPr>
        <p:grpSpPr>
          <a:xfrm>
            <a:off x="626040" y="2971800"/>
            <a:ext cx="7832160" cy="459720"/>
            <a:chOff x="626040" y="2971800"/>
            <a:chExt cx="7832160" cy="459720"/>
          </a:xfrm>
        </p:grpSpPr>
        <p:sp>
          <p:nvSpPr>
            <p:cNvPr id="427" name="Text Box 13"/>
            <p:cNvSpPr/>
            <p:nvPr/>
          </p:nvSpPr>
          <p:spPr>
            <a:xfrm>
              <a:off x="62604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1143000" y="29718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Движение автомобиля является равномерным прямолинейным.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61"/>
          <p:cNvGrpSpPr/>
          <p:nvPr/>
        </p:nvGrpSpPr>
        <p:grpSpPr>
          <a:xfrm>
            <a:off x="621720" y="3429000"/>
            <a:ext cx="3393720" cy="475200"/>
            <a:chOff x="621720" y="3429000"/>
            <a:chExt cx="3393720" cy="475200"/>
          </a:xfrm>
        </p:grpSpPr>
        <p:sp>
          <p:nvSpPr>
            <p:cNvPr id="430" name="Text Box 16"/>
            <p:cNvSpPr/>
            <p:nvPr/>
          </p:nvSpPr>
          <p:spPr>
            <a:xfrm>
              <a:off x="621720" y="3505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1794240" y="342900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t=0:  x=200-20*0=200 (м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59"/>
          <p:cNvGrpSpPr/>
          <p:nvPr/>
        </p:nvGrpSpPr>
        <p:grpSpPr>
          <a:xfrm>
            <a:off x="650520" y="3789360"/>
            <a:ext cx="3457080" cy="1541880"/>
            <a:chOff x="650520" y="3789360"/>
            <a:chExt cx="3457080" cy="1541880"/>
          </a:xfrm>
        </p:grpSpPr>
        <p:sp>
          <p:nvSpPr>
            <p:cNvPr id="433" name="Line 28"/>
            <p:cNvSpPr/>
            <p:nvPr/>
          </p:nvSpPr>
          <p:spPr>
            <a:xfrm>
              <a:off x="1523880" y="4876920"/>
              <a:ext cx="1371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58"/>
            <p:cNvGrpSpPr/>
            <p:nvPr/>
          </p:nvGrpSpPr>
          <p:grpSpPr>
            <a:xfrm>
              <a:off x="650520" y="3789360"/>
              <a:ext cx="3457080" cy="1541880"/>
              <a:chOff x="650520" y="3789360"/>
              <a:chExt cx="3457080" cy="154188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650520" y="41911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4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6" name="Group 54"/>
              <p:cNvGrpSpPr/>
              <p:nvPr/>
            </p:nvGrpSpPr>
            <p:grpSpPr>
              <a:xfrm>
                <a:off x="1547640" y="3789360"/>
                <a:ext cx="2559960" cy="1541880"/>
                <a:chOff x="1547640" y="3789360"/>
                <a:chExt cx="2559960" cy="1541880"/>
              </a:xfrm>
            </p:grpSpPr>
            <p:sp>
              <p:nvSpPr>
                <p:cNvPr id="437" name="Line 23"/>
                <p:cNvSpPr/>
                <p:nvPr/>
              </p:nvSpPr>
              <p:spPr>
                <a:xfrm flipV="1">
                  <a:off x="1547640" y="378936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Line 24"/>
                <p:cNvSpPr/>
                <p:nvPr/>
              </p:nvSpPr>
              <p:spPr>
                <a:xfrm>
                  <a:off x="1547640" y="432288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9" name="Text Box 25"/>
                <p:cNvSpPr/>
                <p:nvPr/>
              </p:nvSpPr>
              <p:spPr>
                <a:xfrm>
                  <a:off x="2848680" y="4399200"/>
                  <a:ext cx="24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0" name="Text Box 26"/>
                <p:cNvSpPr/>
                <p:nvPr/>
              </p:nvSpPr>
              <p:spPr>
                <a:xfrm>
                  <a:off x="1631160" y="378936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Text Box 27"/>
                <p:cNvSpPr/>
                <p:nvPr/>
              </p:nvSpPr>
              <p:spPr>
                <a:xfrm>
                  <a:off x="1559880" y="439920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Text Box 29"/>
                <p:cNvSpPr/>
                <p:nvPr/>
              </p:nvSpPr>
              <p:spPr>
                <a:xfrm>
                  <a:off x="1582200" y="4932360"/>
                  <a:ext cx="3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3471120" y="470376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 baseline="30000">
                      <a:solidFill>
                        <a:srgbClr val="000000"/>
                      </a:solidFill>
                      <a:latin typeface="Tahoma"/>
                    </a:rPr>
                    <a:t>V=-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44" name="Group 57"/>
          <p:cNvGrpSpPr/>
          <p:nvPr/>
        </p:nvGrpSpPr>
        <p:grpSpPr>
          <a:xfrm>
            <a:off x="4817520" y="3352680"/>
            <a:ext cx="3044160" cy="1981440"/>
            <a:chOff x="4817520" y="3352680"/>
            <a:chExt cx="3044160" cy="1981440"/>
          </a:xfrm>
        </p:grpSpPr>
        <p:sp>
          <p:nvSpPr>
            <p:cNvPr id="445" name="Text Box 31"/>
            <p:cNvSpPr/>
            <p:nvPr/>
          </p:nvSpPr>
          <p:spPr>
            <a:xfrm>
              <a:off x="4817520" y="41911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762012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9"/>
            <p:cNvSpPr/>
            <p:nvPr/>
          </p:nvSpPr>
          <p:spPr>
            <a:xfrm>
              <a:off x="662940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 flipV="1">
              <a:off x="6019920" y="335268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6019920" y="441972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626240" y="4572000"/>
              <a:ext cx="2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6108120" y="335268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40"/>
            <p:cNvSpPr/>
            <p:nvPr/>
          </p:nvSpPr>
          <p:spPr>
            <a:xfrm flipH="1">
              <a:off x="594360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6499440" y="45720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42"/>
            <p:cNvSpPr/>
            <p:nvPr/>
          </p:nvSpPr>
          <p:spPr>
            <a:xfrm>
              <a:off x="5443200" y="3809880"/>
              <a:ext cx="4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 flipH="1">
              <a:off x="5943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6031800" y="44956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45"/>
            <p:cNvSpPr/>
            <p:nvPr/>
          </p:nvSpPr>
          <p:spPr>
            <a:xfrm flipH="1" flipV="1">
              <a:off x="6019560" y="3886200"/>
              <a:ext cx="16002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Group 56"/>
          <p:cNvGrpSpPr/>
          <p:nvPr/>
        </p:nvGrpSpPr>
        <p:grpSpPr>
          <a:xfrm>
            <a:off x="626400" y="5791320"/>
            <a:ext cx="3974040" cy="459720"/>
            <a:chOff x="626400" y="5791320"/>
            <a:chExt cx="3974040" cy="459720"/>
          </a:xfrm>
        </p:grpSpPr>
        <p:sp>
          <p:nvSpPr>
            <p:cNvPr id="459" name="Text Box 46"/>
            <p:cNvSpPr/>
            <p:nvPr/>
          </p:nvSpPr>
          <p:spPr>
            <a:xfrm>
              <a:off x="626400" y="5791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47"/>
            <p:cNvSpPr/>
            <p:nvPr/>
          </p:nvSpPr>
          <p:spPr>
            <a:xfrm>
              <a:off x="1606320" y="579132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x=0:  200-20t=0;  20t=200;  t=10 (с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1" name="Picture 48" descr="j0212957"/>
          <p:cNvPicPr/>
          <p:nvPr/>
        </p:nvPicPr>
        <p:blipFill>
          <a:blip r:embed="rId1"/>
          <a:stretch/>
        </p:blipFill>
        <p:spPr>
          <a:xfrm>
            <a:off x="6083280" y="1665360"/>
            <a:ext cx="108108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8674E-006 L -0.78351 -0.00232 E">
                                      <p:cBhvr>
                                        <p:cTn id="17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Об автор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ригорьева Екатерина       Владимиро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508720" y="386064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ель математики средней школы № 3 г. Луга Ленинградской об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E:\Григорьева Е.В..jpg"/>
          <p:cNvPicPr/>
          <p:nvPr/>
        </p:nvPicPr>
        <p:blipFill>
          <a:blip r:embed="rId1"/>
          <a:stretch/>
        </p:blipFill>
        <p:spPr>
          <a:xfrm>
            <a:off x="1712880" y="2017800"/>
            <a:ext cx="2749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бобщить знания по теме «Линейна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ункция» 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Равномерное прямолинейное» движение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строение целостной системы знаний через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ежпредметные связи математики и физи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ормирование  умения решать прикладные зада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производить переход от реальной ситуации к построению математической моде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осуществлять поиск подходящего мет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я математической задач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выявлять соответствие полученных результатов 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ход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2565360"/>
            <a:ext cx="70563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533520" y="304920"/>
            <a:ext cx="8305560" cy="6324480"/>
            <a:chOff x="533520" y="304920"/>
            <a:chExt cx="8305560" cy="6324480"/>
          </a:xfrm>
        </p:grpSpPr>
        <p:grpSp>
          <p:nvGrpSpPr>
            <p:cNvPr id="112" name="Group 5"/>
            <p:cNvGrpSpPr/>
            <p:nvPr/>
          </p:nvGrpSpPr>
          <p:grpSpPr>
            <a:xfrm>
              <a:off x="533520" y="304920"/>
              <a:ext cx="8305560" cy="6324480"/>
              <a:chOff x="533520" y="304920"/>
              <a:chExt cx="8305560" cy="6324480"/>
            </a:xfrm>
          </p:grpSpPr>
          <p:sp>
            <p:nvSpPr>
              <p:cNvPr id="113" name="Line 6"/>
              <p:cNvSpPr/>
              <p:nvPr/>
            </p:nvSpPr>
            <p:spPr>
              <a:xfrm>
                <a:off x="4648320" y="647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 flipV="1">
                <a:off x="4572000" y="304920"/>
                <a:ext cx="0" cy="63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990720" y="380988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648320" y="3049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4572000" y="38862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2971800" y="2057040"/>
                <a:ext cx="4876920" cy="4267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4648320" y="48769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Text Box 13"/>
              <p:cNvSpPr/>
              <p:nvPr/>
            </p:nvSpPr>
            <p:spPr>
              <a:xfrm>
                <a:off x="5715000" y="39625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14"/>
              <p:cNvSpPr/>
              <p:nvPr/>
            </p:nvSpPr>
            <p:spPr>
              <a:xfrm>
                <a:off x="609588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095880" y="3809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Text Box 16"/>
              <p:cNvSpPr/>
              <p:nvPr/>
            </p:nvSpPr>
            <p:spPr>
              <a:xfrm>
                <a:off x="6095880" y="41911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Text Box 17"/>
              <p:cNvSpPr/>
              <p:nvPr/>
            </p:nvSpPr>
            <p:spPr>
              <a:xfrm>
                <a:off x="533520" y="76212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Y=kx+b ( k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, b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 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" name="Text Box 18"/>
            <p:cNvSpPr/>
            <p:nvPr/>
          </p:nvSpPr>
          <p:spPr>
            <a:xfrm>
              <a:off x="8381880" y="3933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47920" y="457200"/>
            <a:ext cx="64767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3573360"/>
            <a:ext cx="4114800" cy="211320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рафиком функции является прямая, параллельная оси Ох, или совпадающая с 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3581280"/>
            <a:ext cx="3886200" cy="284472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ямая пропорциональность, графиком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905120" y="1905120"/>
            <a:ext cx="990360" cy="1668240"/>
            <a:chOff x="1905120" y="1905120"/>
            <a:chExt cx="990360" cy="1668240"/>
          </a:xfrm>
        </p:grpSpPr>
        <p:sp>
          <p:nvSpPr>
            <p:cNvPr id="130" name="Line 7"/>
            <p:cNvSpPr/>
            <p:nvPr/>
          </p:nvSpPr>
          <p:spPr>
            <a:xfrm>
              <a:off x="1905120" y="1905120"/>
              <a:ext cx="0" cy="166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057400" y="2460960"/>
              <a:ext cx="838080" cy="3988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k=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7010280" y="1905120"/>
            <a:ext cx="990720" cy="1676160"/>
            <a:chOff x="7010280" y="1905120"/>
            <a:chExt cx="990720" cy="1676160"/>
          </a:xfrm>
        </p:grpSpPr>
        <p:sp>
          <p:nvSpPr>
            <p:cNvPr id="133" name="Line 8"/>
            <p:cNvSpPr/>
            <p:nvPr/>
          </p:nvSpPr>
          <p:spPr>
            <a:xfrm>
              <a:off x="7010280" y="19051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7238880" y="2438280"/>
              <a:ext cx="762120" cy="3682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=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66600" y="3562200"/>
            <a:ext cx="4475160" cy="3166920"/>
            <a:chOff x="66600" y="3562200"/>
            <a:chExt cx="4475160" cy="3166920"/>
          </a:xfrm>
        </p:grpSpPr>
        <p:sp>
          <p:nvSpPr>
            <p:cNvPr id="136" name="Rectangle 15"/>
            <p:cNvSpPr/>
            <p:nvPr/>
          </p:nvSpPr>
          <p:spPr>
            <a:xfrm>
              <a:off x="66600" y="3562200"/>
              <a:ext cx="4356000" cy="31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7" name="Group 16"/>
            <p:cNvGrpSpPr/>
            <p:nvPr/>
          </p:nvGrpSpPr>
          <p:grpSpPr>
            <a:xfrm>
              <a:off x="117360" y="3715920"/>
              <a:ext cx="4081680" cy="2827440"/>
              <a:chOff x="117360" y="3715920"/>
              <a:chExt cx="4081680" cy="2827440"/>
            </a:xfrm>
          </p:grpSpPr>
          <p:sp>
            <p:nvSpPr>
              <p:cNvPr id="138" name="Line 17"/>
              <p:cNvSpPr/>
              <p:nvPr/>
            </p:nvSpPr>
            <p:spPr>
              <a:xfrm>
                <a:off x="1832040" y="3715920"/>
                <a:ext cx="0" cy="282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117360" y="5279040"/>
                <a:ext cx="408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19"/>
            <p:cNvSpPr/>
            <p:nvPr/>
          </p:nvSpPr>
          <p:spPr>
            <a:xfrm>
              <a:off x="3959280" y="531144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1901880" y="374940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460440" y="4512960"/>
              <a:ext cx="3122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317520" y="3659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Y=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198600" y="40208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631800" y="5279760"/>
              <a:ext cx="30193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198600" y="48128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e4a8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631800" y="5744880"/>
              <a:ext cx="29844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270240" y="584496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f01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6"/>
          <p:cNvGrpSpPr/>
          <p:nvPr/>
        </p:nvGrpSpPr>
        <p:grpSpPr>
          <a:xfrm>
            <a:off x="4573440" y="3533760"/>
            <a:ext cx="4427280" cy="3208320"/>
            <a:chOff x="4573440" y="3533760"/>
            <a:chExt cx="4427280" cy="3208320"/>
          </a:xfrm>
        </p:grpSpPr>
        <p:sp>
          <p:nvSpPr>
            <p:cNvPr id="150" name="Rectangle 43"/>
            <p:cNvSpPr/>
            <p:nvPr/>
          </p:nvSpPr>
          <p:spPr>
            <a:xfrm>
              <a:off x="4573440" y="3533760"/>
              <a:ext cx="4427280" cy="32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6640200" y="5171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640200" y="3738240"/>
              <a:ext cx="0" cy="27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5047920" y="5140080"/>
              <a:ext cx="33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8200800" y="5140080"/>
              <a:ext cx="4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50"/>
            <p:cNvSpPr/>
            <p:nvPr/>
          </p:nvSpPr>
          <p:spPr>
            <a:xfrm>
              <a:off x="6671880" y="3770280"/>
              <a:ext cx="44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 flipV="1">
              <a:off x="5843160" y="3738600"/>
              <a:ext cx="1687680" cy="264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52"/>
            <p:cNvSpPr/>
            <p:nvPr/>
          </p:nvSpPr>
          <p:spPr>
            <a:xfrm>
              <a:off x="4725720" y="3755880"/>
              <a:ext cx="13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ahoma"/>
                </a:rPr>
                <a:t>Y=k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53"/>
            <p:cNvSpPr/>
            <p:nvPr/>
          </p:nvSpPr>
          <p:spPr>
            <a:xfrm>
              <a:off x="7245000" y="390024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K&g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>
              <a:off x="5367240" y="4789440"/>
              <a:ext cx="2927160" cy="7966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7416360" y="567828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e4a8"/>
                  </a:solidFill>
                  <a:latin typeface="Tahoma"/>
                </a:rPr>
                <a:t>K&l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, какому графику линейной функции соответствует каждая из формул?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47636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0920" y="2852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492360" y="3068640"/>
            <a:ext cx="251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450072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16720" y="292428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7740720" y="191592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1258920" y="414936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0" y="5516640"/>
            <a:ext cx="284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766764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551640" y="54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700360" y="29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76360" y="177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476360" y="285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340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12400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1402920" y="242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116000" y="227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34000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611280" y="2060280"/>
            <a:ext cx="2305080" cy="129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724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500720" y="184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50072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9"/>
          <p:cNvSpPr/>
          <p:nvPr/>
        </p:nvSpPr>
        <p:spPr>
          <a:xfrm flipH="1">
            <a:off x="442728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6728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3419640" y="2349360"/>
            <a:ext cx="26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8837640" y="2997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7812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774072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6804000" y="2924280"/>
            <a:ext cx="201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3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2484360" y="551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12589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90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41"/>
          <p:cNvSpPr/>
          <p:nvPr/>
        </p:nvSpPr>
        <p:spPr>
          <a:xfrm flipH="1">
            <a:off x="118692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755640" y="4508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539640" y="4005360"/>
            <a:ext cx="2232000" cy="21603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8801280" y="530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766764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7667640" y="544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845964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48"/>
          <p:cNvSpPr/>
          <p:nvPr/>
        </p:nvSpPr>
        <p:spPr>
          <a:xfrm flipH="1">
            <a:off x="759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317080" y="508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7093080" y="5950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51"/>
          <p:cNvSpPr/>
          <p:nvPr/>
        </p:nvSpPr>
        <p:spPr>
          <a:xfrm flipV="1">
            <a:off x="7020000" y="4941360"/>
            <a:ext cx="2124000" cy="15843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3419640" y="4292640"/>
            <a:ext cx="266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x-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40-120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,05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241128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572436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6659640" y="24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0" y="3933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6659640" y="6165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0.0364 L 0.16493 0.63575 E">
                                      <p:cBhvr>
                                        <p:cTn id="10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84E-006 L -0.21649 0.34964 E">
                                      <p:cBhvr>
                                        <p:cTn id="10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58474E-007 L -0.31962 0.46766 E">
                                      <p:cBhvr>
                                        <p:cTn id="1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4683 L 0.38889 0.19406 E">
                                      <p:cBhvr>
                                        <p:cTn id="11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5009 L -0.31076 -0.20775 E">
                                      <p:cBhvr>
                                        <p:cTn id="1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1"/>
          <p:cNvGrpSpPr/>
          <p:nvPr/>
        </p:nvGrpSpPr>
        <p:grpSpPr>
          <a:xfrm>
            <a:off x="2590920" y="2438280"/>
            <a:ext cx="4681440" cy="3048120"/>
            <a:chOff x="2590920" y="2438280"/>
            <a:chExt cx="4681440" cy="3048120"/>
          </a:xfrm>
        </p:grpSpPr>
        <p:sp>
          <p:nvSpPr>
            <p:cNvPr id="215" name="Rectangle 7"/>
            <p:cNvSpPr/>
            <p:nvPr/>
          </p:nvSpPr>
          <p:spPr>
            <a:xfrm>
              <a:off x="2590920" y="2438280"/>
              <a:ext cx="4647960" cy="3048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2700360" y="2565360"/>
              <a:ext cx="45720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=v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=4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=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=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4527720" y="3314880"/>
                <a:ext cx="88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Text Box 4"/>
          <p:cNvSpPr/>
          <p:nvPr/>
        </p:nvSpPr>
        <p:spPr>
          <a:xfrm>
            <a:off x="1203480" y="1198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332000" y="981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римеры линейных зависим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Графики зависимости скорости от време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зменялась ли скорость тел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 течением времени? Чему равна скорость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корость какого тела больше? Како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ойдёт каждое тело за 5 с?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29528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295280" y="5562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36232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2767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1218960" y="4572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218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657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75248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5146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32004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838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8380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295280" y="3886200"/>
            <a:ext cx="2667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4"/>
          <p:cNvSpPr/>
          <p:nvPr/>
        </p:nvSpPr>
        <p:spPr>
          <a:xfrm flipV="1">
            <a:off x="5867280" y="3276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5867280" y="5486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82296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9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7238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79246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5867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57909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5790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324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70866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7848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5470560" y="38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4"/>
          <p:cNvSpPr/>
          <p:nvPr/>
        </p:nvSpPr>
        <p:spPr>
          <a:xfrm>
            <a:off x="5867280" y="4648320"/>
            <a:ext cx="2667240" cy="0"/>
          </a:xfrm>
          <a:prstGeom prst="line">
            <a:avLst/>
          </a:prstGeom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55"/>
          <p:cNvSpPr/>
          <p:nvPr/>
        </p:nvSpPr>
        <p:spPr>
          <a:xfrm>
            <a:off x="5867280" y="3886200"/>
            <a:ext cx="259092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8305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8305920" y="4267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x , 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1371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 ,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8380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Графики зависим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перемещения от време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8620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 какой 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вигалось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корость каждого тела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то можно сказать о движении тел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льзуясь графиком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943600" y="57150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62485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324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5345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781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58672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238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6960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553080" y="6819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8381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87631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8672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410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609588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1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2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257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617220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784872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58672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334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38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0"/>
          <p:cNvSpPr/>
          <p:nvPr/>
        </p:nvSpPr>
        <p:spPr>
          <a:xfrm flipV="1">
            <a:off x="5943600" y="5257440"/>
            <a:ext cx="3808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754380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594360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43"/>
          <p:cNvSpPr/>
          <p:nvPr/>
        </p:nvSpPr>
        <p:spPr>
          <a:xfrm flipV="1">
            <a:off x="5943600" y="4343400"/>
            <a:ext cx="228600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46"/>
          <p:cNvSpPr/>
          <p:nvPr/>
        </p:nvSpPr>
        <p:spPr>
          <a:xfrm flipV="1">
            <a:off x="72388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94360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48"/>
          <p:cNvSpPr/>
          <p:nvPr/>
        </p:nvSpPr>
        <p:spPr>
          <a:xfrm flipV="1">
            <a:off x="5943600" y="3809880"/>
            <a:ext cx="1676520" cy="1905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556760" y="3581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0066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802584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828800" y="29718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56"/>
          <p:cNvSpPr/>
          <p:nvPr/>
        </p:nvSpPr>
        <p:spPr>
          <a:xfrm>
            <a:off x="1828800" y="5715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4501080" y="5791320"/>
            <a:ext cx="2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59"/>
          <p:cNvSpPr/>
          <p:nvPr/>
        </p:nvSpPr>
        <p:spPr>
          <a:xfrm>
            <a:off x="23623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0"/>
          <p:cNvSpPr/>
          <p:nvPr/>
        </p:nvSpPr>
        <p:spPr>
          <a:xfrm>
            <a:off x="2895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-2209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62"/>
          <p:cNvSpPr/>
          <p:nvPr/>
        </p:nvSpPr>
        <p:spPr>
          <a:xfrm>
            <a:off x="3352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3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64"/>
          <p:cNvSpPr/>
          <p:nvPr/>
        </p:nvSpPr>
        <p:spPr>
          <a:xfrm>
            <a:off x="44197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5"/>
          <p:cNvSpPr/>
          <p:nvPr/>
        </p:nvSpPr>
        <p:spPr>
          <a:xfrm>
            <a:off x="22222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2590920" y="594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275580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28932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3733920" y="5867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42796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71"/>
          <p:cNvSpPr/>
          <p:nvPr/>
        </p:nvSpPr>
        <p:spPr>
          <a:xfrm flipH="1">
            <a:off x="17524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7524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3"/>
          <p:cNvSpPr/>
          <p:nvPr/>
        </p:nvSpPr>
        <p:spPr>
          <a:xfrm flipH="1">
            <a:off x="1752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4"/>
          <p:cNvSpPr/>
          <p:nvPr/>
        </p:nvSpPr>
        <p:spPr>
          <a:xfrm flipH="1">
            <a:off x="1752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1395000" y="51814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6"/>
          <p:cNvSpPr/>
          <p:nvPr/>
        </p:nvSpPr>
        <p:spPr>
          <a:xfrm>
            <a:off x="147132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441972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1828800" y="3200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79"/>
          <p:cNvSpPr/>
          <p:nvPr/>
        </p:nvSpPr>
        <p:spPr>
          <a:xfrm flipV="1">
            <a:off x="1828800" y="2971800"/>
            <a:ext cx="281952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80"/>
          <p:cNvSpPr/>
          <p:nvPr/>
        </p:nvSpPr>
        <p:spPr>
          <a:xfrm>
            <a:off x="2049480" y="2593800"/>
            <a:ext cx="2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1"/>
          <p:cNvSpPr/>
          <p:nvPr/>
        </p:nvSpPr>
        <p:spPr>
          <a:xfrm>
            <a:off x="1829880" y="26668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На рисунке изображены графики зависимости координаты трех тел от времени</a:t>
            </a:r>
            <a:r>
              <a:rPr b="1" i="1" lang="ru-RU" sz="2000" spc="-1" strike="noStrike" baseline="2000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Line 6"/>
          <p:cNvSpPr/>
          <p:nvPr/>
        </p:nvSpPr>
        <p:spPr>
          <a:xfrm flipV="1">
            <a:off x="914400" y="22096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657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006920" y="22096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, 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133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2743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276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2666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918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061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8380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1"/>
          <p:cNvSpPr/>
          <p:nvPr/>
        </p:nvSpPr>
        <p:spPr>
          <a:xfrm flipH="1">
            <a:off x="8380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2"/>
          <p:cNvSpPr/>
          <p:nvPr/>
        </p:nvSpPr>
        <p:spPr>
          <a:xfrm flipH="1">
            <a:off x="8380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3"/>
          <p:cNvSpPr/>
          <p:nvPr/>
        </p:nvSpPr>
        <p:spPr>
          <a:xfrm flipH="1">
            <a:off x="8380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8380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8380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470520" y="28195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470520" y="23623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8"/>
          <p:cNvSpPr/>
          <p:nvPr/>
        </p:nvSpPr>
        <p:spPr>
          <a:xfrm flipV="1">
            <a:off x="327672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9"/>
          <p:cNvSpPr/>
          <p:nvPr/>
        </p:nvSpPr>
        <p:spPr>
          <a:xfrm>
            <a:off x="91440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914400" y="2209320"/>
            <a:ext cx="34290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31"/>
          <p:cNvSpPr/>
          <p:nvPr/>
        </p:nvSpPr>
        <p:spPr>
          <a:xfrm>
            <a:off x="914400" y="2895480"/>
            <a:ext cx="3352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14400" y="2895480"/>
            <a:ext cx="3200400" cy="289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119120" y="1981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69720" y="2666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48560" y="54100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cc33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932360" y="2276640"/>
            <a:ext cx="36576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1. Какую информацию о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движении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каждого тела вы можете извлечь из этих график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2. В чем различие и в чем сходство движения этих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3. Запишите формулой зависимость координаты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тел от времени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9:20Z</dcterms:created>
  <dc:creator>К_Ц</dc:creator>
  <dc:description/>
  <dc:language>en-US</dc:language>
  <cp:lastModifiedBy>Паша</cp:lastModifiedBy>
  <dcterms:modified xsi:type="dcterms:W3CDTF">2012-03-24T17:51:38Z</dcterms:modified>
  <cp:revision>46</cp:revision>
  <dc:subject/>
  <dc:title>Линейная функция</dc:title>
</cp:coreProperties>
</file>